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91910"/>
        <c:axId val="8407743"/>
      </c:barChart>
      <c:catAx>
        <c:axId val="29491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743"/>
        <c:crosses val="autoZero"/>
        <c:auto val="1"/>
        <c:lblAlgn val="ctr"/>
        <c:lblOffset val="100"/>
        <c:noMultiLvlLbl val="0"/>
      </c:catAx>
      <c:valAx>
        <c:axId val="8407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91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D3C-488C-4178-B840-89FA5470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7C1-8802-440C-B459-AA23DAE7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05D-F4A6-450B-8E6D-D61801A4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78C-A9D6-4D22-A634-3B6C7263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686-85A6-4443-83BD-35EA7469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0D3-97D6-45F4-B7BB-9BAF66A5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3B5-0068-450D-9F8B-619EF90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05C-80C2-43DF-BE84-D192210D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AA9-7DEF-4A86-BD35-73BDB15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5EB-4C92-4607-8262-4E526F3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0BF-E765-4722-A956-9F669ED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9B3-0BA2-4431-A779-2D83BA9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C517-0ECB-4065-A03C-350AB0910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