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51437"/>
        <c:axId val="53856652"/>
      </c:barChart>
      <c:catAx>
        <c:axId val="835514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56652"/>
        <c:crosses val="autoZero"/>
        <c:auto val="1"/>
        <c:lblAlgn val="ctr"/>
        <c:lblOffset val="100"/>
        <c:noMultiLvlLbl val="0"/>
      </c:catAx>
      <c:valAx>
        <c:axId val="53856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514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81A-63E0-4631-8A41-E32A7E92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4B5-C87E-45A4-956C-93FECCD9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D31-2468-4440-B082-1E9281F9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173-CE58-427A-912C-F2829BC1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780-AA9E-4088-9142-0F7C062F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72B-E49C-4D36-BF82-12C9FFE1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E8F-87DA-42F0-8251-D049B3AB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615-9AAD-434E-B718-04C6764B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1FD-E96F-453A-80F0-CB7D7C4B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AF6-D837-4162-94E7-79E46597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203-B9D7-4833-848F-99EA3E08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34C-0778-49B4-9514-0E515E5D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7345B-99CA-49DE-A8BE-EC215B6A27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