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8313"/>
        <c:axId val="33453764"/>
      </c:barChart>
      <c:catAx>
        <c:axId val="4538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3764"/>
        <c:crosses val="autoZero"/>
        <c:auto val="1"/>
        <c:lblAlgn val="ctr"/>
        <c:lblOffset val="100"/>
        <c:noMultiLvlLbl val="0"/>
      </c:catAx>
      <c:valAx>
        <c:axId val="33453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9AA-99A4-46E7-BE41-2CD087AE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839-55CD-4278-AB5A-B5D9B1B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DF7-7AF1-406D-BBE8-F5FA9381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F15-A866-48C4-B689-F94B72C2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AF8-E916-4FBE-8FF3-4B1D39FD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62E-8E38-4444-8DF1-DFED5D1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497-BFA2-4C6F-957F-C3B43F8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C29-44DB-4C22-A487-CDA3D02A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2A8-12D9-46EC-AC43-3F9A52B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B3-41AC-4854-89F6-74FF4391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295-059F-4BC1-BF67-0CB0352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9F4-506D-462B-971B-DEC0617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3F384-652F-4724-A494-347CC01D30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