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47609"/>
        <c:axId val="93814921"/>
      </c:barChart>
      <c:catAx>
        <c:axId val="65347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14921"/>
        <c:crosses val="autoZero"/>
        <c:auto val="1"/>
        <c:lblAlgn val="ctr"/>
        <c:lblOffset val="100"/>
        <c:noMultiLvlLbl val="0"/>
      </c:catAx>
      <c:valAx>
        <c:axId val="938149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47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333-5254-4C38-9109-E724D844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0C6-CE29-4A9E-AA4A-4DEC8F11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FE8-90CA-4A5F-8517-092CE905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DC75-A6F9-49E6-AE17-9D4E2B7D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02FD-E25E-463C-BF29-283CD8BA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C401-63AB-4F6A-8DB3-CBECE221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D84-6B5E-4E63-8498-0E62EBF5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78F0-811C-4D6C-9355-CE326320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2E7C-2E1D-4883-9375-7DA77090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16C2-9B88-4759-ADF0-96B70080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5AA-2632-4B01-ACD6-D2579663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AE0-7213-4A35-8A31-36466651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B34E3-29AE-4265-AEF0-82AD3324DB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