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584824"/>
        <c:axId val="24573338"/>
      </c:barChart>
      <c:catAx>
        <c:axId val="435848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573338"/>
        <c:crosses val="autoZero"/>
        <c:auto val="1"/>
        <c:lblAlgn val="ctr"/>
        <c:lblOffset val="100"/>
        <c:noMultiLvlLbl val="0"/>
      </c:catAx>
      <c:valAx>
        <c:axId val="245733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5848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DE86-CE1F-462E-994E-F7FAF45F2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57A6-6191-4D57-898A-A8DA83C4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F71C-8D84-4005-879C-1F90615D7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0068-47EA-46E9-A5B8-7DE91A5B7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3694-548B-4518-A7C7-5EEA4A32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E09B-B55F-4736-A632-79506734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987F-BC9F-468B-A325-D2399B55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8271-BFA5-4810-BA8C-62A31143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54DB-B65F-4CB1-B6BE-9F86E28C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AD57-6659-43EF-AC1A-CD27CE8F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DA27-5975-467C-9E19-57961E4E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DE91-5A25-499A-802D-6D2A96BC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48F704-331C-4A9A-AFCF-493B22BA93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