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78918"/>
        <c:axId val="22821244"/>
      </c:barChart>
      <c:catAx>
        <c:axId val="61378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1244"/>
        <c:crosses val="autoZero"/>
        <c:auto val="1"/>
        <c:lblAlgn val="ctr"/>
        <c:lblOffset val="100"/>
        <c:noMultiLvlLbl val="0"/>
      </c:catAx>
      <c:valAx>
        <c:axId val="22821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78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06D-320C-43D4-93B0-09FCD0FF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224-69C8-4103-898C-CCC21E0A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292-8C33-4D3E-B74E-2ED78CDB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D42-9413-4E4D-ABD7-A21F8695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D2F-20E5-4349-9D0E-81BF2A5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C24-61F3-4630-B10A-065E4638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798-95F8-43DF-9E48-87A8404E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610-17F2-4A68-9C35-49D9A8D3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AD6-CA0B-4300-8B13-382CFE0E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636-209B-44D3-BFE0-F9A91A5B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DDE-6943-4AFC-8E7C-0D16E13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3BC-2D9C-4FDD-8BBA-10E3841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8681D-08FA-4E45-830F-1F5F787FFC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