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87458"/>
        <c:axId val="42731314"/>
      </c:barChart>
      <c:catAx>
        <c:axId val="35387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31314"/>
        <c:crosses val="autoZero"/>
        <c:auto val="1"/>
        <c:lblAlgn val="ctr"/>
        <c:lblOffset val="100"/>
        <c:noMultiLvlLbl val="0"/>
      </c:catAx>
      <c:valAx>
        <c:axId val="42731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87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554-3F8E-4DE8-9C75-FD29C424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39A-6C81-4BA7-81D3-2743BCAC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3F2-ECDF-4B86-8203-A58E1A10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4C1-6F3B-40BD-94CB-8C14F026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033-703D-4D2E-B5DB-BC877C0B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009-A104-4BAD-A827-10019EC4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A57-BE37-4EB1-A970-65B249A9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0AE-E4E3-4F04-9A3F-B1DB423F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38F-9BF3-4740-8EFD-D9B8CE2F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0B8-A876-46EB-9DB8-C360AF9B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55F-AF2D-41BE-9071-C570972A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6E9-2688-492A-8182-F608785D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C72BF-5111-481A-A8A9-1C9E705488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